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18B-516A-4A84-9606-761F49F8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51D-0B15-401F-B625-0859F886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8B7-D759-408B-AAEE-CDBBE024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7E8-05E1-4C69-A30E-96E6DDAD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563A-D75C-48ED-907E-A36A4771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C424-B9A5-4B62-8808-5D5FAB7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1666-A855-49AB-94F0-64C5F33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F30F-C11B-4B66-B691-DF79BE7A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AE1C-EF59-4BCC-91B7-8CC88A7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9D2-95FB-4C43-B6C3-B5747EAD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20E4-4EC9-4511-9BD3-A7ABC50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F52-8120-412F-8927-0997C19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E9F-8056-41E6-8E31-87B6E83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A2E6-67C5-43C3-B6A0-CF37C05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090F-032C-4BC1-AF18-3644AF96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502-1817-447A-9310-DA8EB466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693C-8436-4655-B125-592306A3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9C8-CD00-43FC-9217-B012811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688-76D6-4309-B874-6D0A3E73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FD4-346F-4B7F-A3B4-160347D7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8A3-E745-454F-907C-9EFA0BF4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CF3-0036-487A-B371-BF5437C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840-5F7B-41A1-9B32-667E895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6C3-07AE-483E-A5E3-2453C45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0B13-1890-475B-8689-428F5FE34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094-7081-4157-86CF-A20B6687E0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incoln Douglas Deb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locking the Doors to Persua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ample CRITE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ke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sseau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bb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wls’ Distributive Jus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tham’s Principle of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l’s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nt’s Categorical Imper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low’s Theory of Self-Act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main ways to win an LD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supported by your case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pported by your opponent's case,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per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your opponent’s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tter supports your value than your opponent’s case supports the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case better support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OTH valu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n your opponent’s case supports either 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u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C (affirmative constructive) = 6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. cx (cross examine) of Aff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C (negative constructiv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R) = 7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f. cx of Neg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R (affirmative rebuttal) =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R (negative rebuttal) =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AR (affirmative rebuttal)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(Each side also has 4 total minutes of Prep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ing quotation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ification for your 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the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ll Te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ew your Contentions (main clai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entions” are your main points.  Your main claim is called your “Tag Line” (statement of your opi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Taking the life of even one individual undermines the basic right to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if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ONE: Taking a life is immor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TWO: It is immoral to assume any life is more valuable than anoth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Killing even one person will not result in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reatest g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Violating life also violates other basic rights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firm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g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TTACK AFFIRMA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tta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ir Value &amp;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how these uphold th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thei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ch Con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evidence o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ntral Ideas of their C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items they should have addressed, but 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he Negative tries to cast doubt upon the Aff position (and vice vers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make statements in cx- as questions and gain answers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allow your opponent to evade answering your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ry to boil your opponent’s case down to a few simple po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rude during cx- always thank your opponent for the answ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clarification questions for information you may have missed on your Flow Sh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the Answerer, answer as clearly and simply as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nfidence in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, don’t get ang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out to the JUDGE during cx, do not look at your oppon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based in a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flict (ex. Whether the Individual is more valuable than the Society, or whether something is Jus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is determined by the National Forensic League (NF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will change every 2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:  Rebutt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the same rules outlined for the last half of the 1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NEW POINTS may be brought up in these spee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-up evidence is useful, but not necessary.  LD should not be an evidence wa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ast 2AC should be used to CRYSTALLIZE the round (and state why you have won the roun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god or goddess in the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must imp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r opponent does not exist- they are merely a dissenting voice to the truth you sp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ince yourself you ar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order to win the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to the type of judge you think you have (experienced or not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smoothly, without use of “uh…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 your tone, rate, volume and inflection for emph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 your case in front of a 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tilize controlled gestures and eye contact with you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yourself time to brea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 and conversational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2 debaters in the rou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FFIRM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pholds the Resolution the way it is st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gues against the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entral theme of LD Debat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y close attention to the definitions you use- it is best to use the first one out of the dictionary, since this is the most common, and the one your judge will be most familiar with (and will agree wi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the Abe &amp; Steve debate: the whole point of that debate was whether slaves were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DEFIN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human beings or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key words that need to be defined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valuative term)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object of evaluation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anything, as long as they are supported (Criter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ble to explain why it is important off the top of your head without quoting from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in your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amp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tilitari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ty of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vi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obal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uman Dign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ilosophies and/or contracts that will uphold the Value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ory to help you prove your Value is more persua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18:26Z</dcterms:created>
  <dc:creator>Frisco ISD</dc:creator>
  <dc:description/>
  <dc:language>en-US</dc:language>
  <cp:lastModifiedBy>Frisco ISD</cp:lastModifiedBy>
  <dcterms:modified xsi:type="dcterms:W3CDTF">2008-09-11T15:44:45Z</dcterms:modified>
  <cp:revision>18</cp:revision>
  <dc:subject/>
  <dc:title>Lincoln Douglas Debate</dc:title>
</cp:coreProperties>
</file>